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FDC-37FA-4943-AC02-94339C8BD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828-88E2-4886-873F-1B3715DCC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8F3-ECC6-4DC0-AB87-ACB9D39E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61E-CD4B-4D78-8386-CB6DC483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776-F86F-4266-AF49-3F716527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100-19D2-4403-84D8-673F97EF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4AD-1283-4CAE-8E1B-848D88E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299-1498-4BAA-B501-A3EBB59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A47-3B99-4C15-936B-870D37ED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729-9D12-4535-90B5-1CB70E9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59A-B0A3-4308-A6E5-2DA9405F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1A1-F0BC-45F3-8CC1-836045F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FC0-1204-49B6-929A-EECBC04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35B-E0A0-4E57-ABF3-CEF5E51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F02-5C75-432D-9449-8023C26D2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7/SOA-Condylomata-acuminata-female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upload.wikimedia.org/wikipedia/commons/f/f7/SOA-Condylomata-acuminata-female.jpg"/>
          <p:cNvPicPr/>
          <p:nvPr/>
        </p:nvPicPr>
        <p:blipFill>
          <a:blip r:embed="rId1"/>
          <a:stretch/>
        </p:blipFill>
        <p:spPr>
          <a:xfrm>
            <a:off x="1295280" y="380880"/>
            <a:ext cx="6815160" cy="5043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380880" y="5562720"/>
            <a:ext cx="845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f/f7/SOA-Condylomata-acuminata-female.jp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7:19:19Z</dcterms:created>
  <dc:creator>maxwee01</dc:creator>
  <dc:description/>
  <dc:language>en-US</dc:language>
  <cp:lastModifiedBy>maxwee01</cp:lastModifiedBy>
  <dcterms:modified xsi:type="dcterms:W3CDTF">2010-02-17T17:29:35Z</dcterms:modified>
  <cp:revision>1</cp:revision>
  <dc:subject/>
  <dc:title>Slide 1</dc:title>
</cp:coreProperties>
</file>